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5FA4-94AC-45B3-A5D8-E4A2EB7EE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B664-920A-48A4-8307-2526393C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E46D-293A-4D2D-8606-C303AD70F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11C8-930B-4864-9268-63FAE78C2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37AF-833C-472A-A1C1-991D48EF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D4B9-2179-4299-AD1C-4494A09A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3446-FAFB-4102-AFBA-C104C0C6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0851-54B1-414B-B3A9-0C491F26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64D3-5697-4B3D-BF34-FD300A52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05C7-001B-4ED0-9BD5-F9EAD347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8621-306B-4D8F-AA71-FAF5BFFA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1E1F-9752-4874-9A98-F14D87CE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31C00-A6C5-4156-AB25-0D1F4983DB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 your planet n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ctr">
            <a:noAutofit/>
          </a:bodyPr>
          <a:p>
            <a:pPr marL="343080" indent="0" algn="ct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you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3280" y="1768320"/>
            <a:ext cx="4425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151600" y="1768320"/>
            <a:ext cx="44258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02:48:50Z</dcterms:created>
  <dc:creator/>
  <dc:description/>
  <dc:language>en-US</dc:language>
  <cp:lastModifiedBy/>
  <cp:revision>1</cp:revision>
  <dc:subject/>
  <dc:title/>
</cp:coreProperties>
</file>